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png" ContentType="image/png"/>
  <Override PartName="/ppt/media/image15.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590CC-2680-4874-96EC-B133EF78B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3052-96A8-4634-ABB8-0F6DDB666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775E4-2A99-4302-A569-9765ACEC4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D155A-A425-4DC7-9846-19A30086E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87CAC-1403-4EDB-BE66-6D782D270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6DDFA-EF86-495A-B2B5-386C388F9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F156A-0D03-47F3-B7F2-FF2781A85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5E4F3-AEDF-4E44-918A-F6F84E754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5EC17-D95F-4CFE-AD66-294BC36BB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BD79C-91F6-4ECF-969F-37E9C23CD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BDA91-1517-4738-9D9A-973CCEA4D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40BFC-D625-471B-964A-4088C0638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C49F-73DB-488B-AB6E-8220BF277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61EC-0DEC-42E0-BCE6-CCF5AE10C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B7EB4-F689-4716-90DC-6C07B30D8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D1D75-AC6A-41D5-BD70-88E5917EB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6BB45-DF69-4A11-889B-57EFCE3CD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E82FD9-3EBB-4BD9-881B-A21E9EE292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1C239-4573-47FD-AA0E-D691C6303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3754C-659D-4F7E-9ED6-766A0276D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88E9C-22C6-4986-8586-68E43BB6F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39BDD-37A3-4F99-B30D-E49CB0A52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75F65-4378-4B25-996B-120DFCFD0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9D064-F3EA-4331-A3A4-FE455EF35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C2B51-858D-40C8-B614-BD3C3B155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97332-7CE9-4754-B8AF-015E91B76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4CB38-F862-4790-A74C-B2D7C31CB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C5352-F88F-4A4C-92B9-708989CD9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CA34D-024F-40F7-89DB-3C2A970266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DC6BFA-2019-4F0C-954F-E401E1F19E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A3FA9-8A1B-4951-BFE6-72315F08F7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0FD7C-8818-4608-A966-8D0AB048A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FEC3F-802C-4175-9383-18B83DD47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CB77-F2DE-48BA-9465-0F9F16C9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17F6D-B9FB-486A-9E44-34C6B2F92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97E84-2818-4CB1-A631-FAEC15229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BA2B4-238A-49AD-8EBE-69FCEB4F4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8C004-B242-4637-A3C2-49CC1DDE4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BABB9-1ABB-4374-96C2-1DBBB61E0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60E9B-59EE-43A2-91DB-2095D5B45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1E196-3700-45C4-81F6-D6B4987BA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720A07-E7CE-4288-AA8A-9390A90871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B8735-2379-45D3-A5F6-D00416371E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9EBD80-FFDD-42BD-B31F-B1C7727340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17D3-6DC8-4333-B730-82DD2DD33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9F43A-4442-4CFD-B017-B66009E39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95A26-AD34-4FFF-9A0E-0D08C3938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8F101-0457-4E0B-9B1B-230B42436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87E0C-9554-43F9-AD5F-38C71FCF0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EB6EF-6C15-4FF6-A2F3-F0B2CA6B4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11FC7-BF36-4630-BF00-4D4A8EF09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179C4-CAF9-480E-A67A-173C0F9BC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809B8-35F3-4728-9C6E-0D277F59F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F0AFB-8E7C-40F6-B048-E1444FA5F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62D10E-2504-41A7-B564-5DC421338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D1ED0-4CA3-4C8A-B0BC-CC58383AE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5EEFD2-AFC3-40C6-8352-47D8ED4DA3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EBC99A-FCA2-4EE7-86EE-D132BF6417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BF4820-065F-400F-8235-35D541B9A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B33F1-ABC3-4E7E-817C-040CD149A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C92D3-98F6-472B-97CB-F71E46C07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EFF4A1-EC77-4EE3-BA46-9825ADB976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A2373-1ACF-4A4E-8007-1C335C7A1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4E086-D1AD-40DB-BADD-F4B4CEDAD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D0F23-A9C7-45F8-A495-12B650068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0BF061-235A-49C3-B594-1B33C8907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5F58-6388-4B91-BFA9-A60941B15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76639-555B-4592-8AA2-79A8622E1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24954B-77D4-43C4-A755-722544CC01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B2319E-7386-4063-BFA0-B796F353C9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F21D7E-3FFB-44D8-88E0-12F65D6610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44369-8002-4E66-8C0F-87D447DF20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B2293-F887-4B9A-81F0-4005D9168B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D77953-5227-49F2-90E4-CA03AF43B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4E445-A2C7-4109-AF46-8E61F0362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C987B-C331-462B-8E04-28D9CFD03B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42774-D0D8-4FDE-8FB7-CB1A49664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C117-ACDF-499C-A313-B438CCF6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D82390-1880-4975-8E2E-EA9D0AA8D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3CE28-6442-4A0A-88A6-6523B2B6F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08C23-67A2-49A5-90D5-D6BFADED0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14CDDA-2955-47C4-ADEA-A4ACBF23EE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9D4E2B-87B2-44F6-9C7B-942A94D2E3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2617-B0A1-467C-8F82-243A49401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C403-58B0-4FA6-AFF8-BEDAA921BBE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717D-C62A-411B-8C79-AE6A95724A1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5AE8-D86B-4C1B-ABE8-866D87259A3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36A5-0DF1-4869-AA89-185DAFB7123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BC44-24E7-4C30-A9DD-176774D1321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11A3-0C37-4ABD-B877-F1E4D676FD1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6640" y="12175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6640" y="12823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8920" y="1370160"/>
              <a:ext cx="691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7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920" y="1434960"/>
              <a:ext cx="691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1520" y="14731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1520" y="15379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42BB-5D2E-43A1-8692-803E50C0E9E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odaysteacher.com/Digital_Storytelling/wangdoodle.wmv" TargetMode="External"/><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hyperlink" Target="http://www.digitales.us/story_details.php?story_id=118" TargetMode="External"/><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aberth.com/blog/ds4-festival-of-digital-storytelling-2009-cribsheet.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torycenter.org/timeline.html" TargetMode="External"/><Relationship Id="rId2" Type="http://schemas.openxmlformats.org/officeDocument/2006/relationships/hyperlink" Target="http://www.todaysteacher.com/Digital_Storytelling/wangdoodle.wmv"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igitalstorytelling.coe.uh.edu/intro/DS-intro.htm" TargetMode="Externa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xtexit.com/nextexit/nextframeset.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untold sto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 told by Jolandra White (EDUC 8841)</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lementation . . .</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rmation . . .</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fontScale="92000"/>
          </a:bodyPr>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996 – “With support from Apple Computer, the SFDMC publishes the first version of the </a:t>
            </a:r>
            <a:r>
              <a:rPr b="0" i="1" lang="en-US" sz="2600" spc="-1" strike="noStrike">
                <a:solidFill>
                  <a:srgbClr val="ffffff"/>
                </a:solidFill>
                <a:latin typeface="Corbel"/>
              </a:rPr>
              <a:t>Digital Storytelling Cookbook</a:t>
            </a:r>
            <a:r>
              <a:rPr b="0" lang="en-US" sz="2600" spc="-1" strike="noStrike">
                <a:solidFill>
                  <a:srgbClr val="ffffff"/>
                </a:solidFill>
                <a:latin typeface="Corbel"/>
              </a:rPr>
              <a:t>, outlining the ‘Seven Elements’ of digital storytelling and offering hands-on production tutorials” (Center for Digital Storytelling).</a:t>
            </a:r>
            <a:endParaRPr b="0" lang="en-US" sz="2600" spc="-1" strike="noStrike">
              <a:solidFill>
                <a:srgbClr val="ffffff"/>
              </a:solidFill>
              <a:latin typeface="Corbel"/>
            </a:endParaRPr>
          </a:p>
          <a:p>
            <a:pPr marL="378000" indent="-31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b8803"/>
                </a:solidFill>
                <a:uFillTx/>
                <a:latin typeface="Corbel"/>
                <a:hlinkClick r:id="rId1"/>
              </a:rPr>
              <a:t>http://www.storycenter.org/cookbook.html</a:t>
            </a: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533520"/>
            <a:ext cx="8763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Educational Uses of Digital Storytelling</a:t>
            </a:r>
            <a:endParaRPr b="0" lang="en-US" sz="3200" spc="-1" strike="noStrike">
              <a:solidFill>
                <a:srgbClr val="c1eeff"/>
              </a:solidFill>
              <a:latin typeface="Consolas"/>
            </a:endParaRPr>
          </a:p>
        </p:txBody>
      </p:sp>
      <p:pic>
        <p:nvPicPr>
          <p:cNvPr id="397" name="Picture 2" descr="">
            <a:hlinkClick r:id="rId1"/>
          </p:cNvPr>
          <p:cNvPicPr/>
          <p:nvPr/>
        </p:nvPicPr>
        <p:blipFill>
          <a:blip r:embed="rId2"/>
          <a:stretch/>
        </p:blipFill>
        <p:spPr>
          <a:xfrm>
            <a:off x="2362320" y="2590920"/>
            <a:ext cx="4733640" cy="3865320"/>
          </a:xfrm>
          <a:prstGeom prst="rect">
            <a:avLst/>
          </a:prstGeom>
          <a:ln w="0">
            <a:noFill/>
          </a:ln>
        </p:spPr>
      </p:pic>
      <p:pic>
        <p:nvPicPr>
          <p:cNvPr id="398" name="Rectangle 5" descr=""/>
          <p:cNvPicPr/>
          <p:nvPr/>
        </p:nvPicPr>
        <p:blipFill>
          <a:blip r:embed="rId3"/>
          <a:stretch/>
        </p:blipFill>
        <p:spPr>
          <a:xfrm>
            <a:off x="2736720" y="2206800"/>
            <a:ext cx="3645000" cy="26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egiate use of DS . . .</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12 use of DS . . .</a:t>
            </a:r>
            <a:endParaRPr b="0" lang="en-US" sz="4000" spc="-1" strike="noStrike">
              <a:solidFill>
                <a:srgbClr val="c1eeff"/>
              </a:solidFill>
              <a:latin typeface="Consolas"/>
            </a:endParaRPr>
          </a:p>
        </p:txBody>
      </p:sp>
      <p:sp>
        <p:nvSpPr>
          <p:cNvPr id="402" name=""/>
          <p:cNvSpPr txBox="1"/>
          <p:nvPr/>
        </p:nvSpPr>
        <p:spPr>
          <a:xfrm>
            <a:off x="761760" y="1447920"/>
            <a:ext cx="8181720" cy="5075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gital storytelling used to promote writing with fourth and fifth grade students, “</a:t>
            </a:r>
            <a:r>
              <a:rPr b="0" lang="en-US" sz="3000" spc="-1" strike="noStrike" u="sng">
                <a:solidFill>
                  <a:srgbClr val="eb8803"/>
                </a:solidFill>
                <a:uFillTx/>
                <a:latin typeface="Corbel"/>
                <a:hlinkClick r:id="rId1"/>
              </a:rPr>
              <a:t>Project Place</a:t>
            </a:r>
            <a:r>
              <a:rPr b="0" lang="en-US" sz="3000" spc="-1" strike="noStrike">
                <a:solidFill>
                  <a:srgbClr val="ffffff"/>
                </a:solidFill>
                <a:latin typeface="Corbel"/>
              </a:rPr>
              <a:t>” (Banaszwenski, 2002).</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gital storytelling used to promote “oral language development through reflective self-learning (RSL) in seven-year-old children” (Valkanova &amp; Watts, 2007, p. 79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he tiger to see an example of DS </a:t>
            </a:r>
            <a:endParaRPr b="0" lang="en-US" sz="3000" spc="-1" strike="noStrike">
              <a:solidFill>
                <a:srgbClr val="ffffff"/>
              </a:solidFill>
              <a:latin typeface="Corbel"/>
            </a:endParaRPr>
          </a:p>
        </p:txBody>
      </p:sp>
      <p:pic>
        <p:nvPicPr>
          <p:cNvPr id="403" name="Picture 4" descr="C:\Program Files\Microsoft Office\MEDIA\CAGCAT10\j0332364.wmf">
            <a:hlinkClick r:id="rId2"/>
          </p:cNvPr>
          <p:cNvPicPr/>
          <p:nvPr/>
        </p:nvPicPr>
        <p:blipFill>
          <a:blip r:embed="rId3"/>
          <a:stretch/>
        </p:blipFill>
        <p:spPr>
          <a:xfrm>
            <a:off x="7543800" y="5334120"/>
            <a:ext cx="1228680" cy="99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The Digital Storytelling S Curve</a:t>
            </a:r>
            <a:endParaRPr b="0" lang="en-US" sz="3400" spc="-1" strike="noStrike">
              <a:solidFill>
                <a:srgbClr val="c1eeff"/>
              </a:solidFill>
              <a:latin typeface="Consolas"/>
            </a:endParaRPr>
          </a:p>
        </p:txBody>
      </p:sp>
      <p:pic>
        <p:nvPicPr>
          <p:cNvPr id="405" name="Picture 4" descr=""/>
          <p:cNvPicPr/>
          <p:nvPr/>
        </p:nvPicPr>
        <p:blipFill>
          <a:blip r:embed="rId1"/>
          <a:stretch/>
        </p:blipFill>
        <p:spPr>
          <a:xfrm>
            <a:off x="1905120" y="2133720"/>
            <a:ext cx="5900760" cy="3747960"/>
          </a:xfrm>
          <a:prstGeom prst="rect">
            <a:avLst/>
          </a:prstGeom>
          <a:ln w="0">
            <a:noFill/>
          </a:ln>
        </p:spPr>
      </p:pic>
      <p:sp>
        <p:nvSpPr>
          <p:cNvPr id="406" name="Rectangle 4"/>
          <p:cNvSpPr/>
          <p:nvPr/>
        </p:nvSpPr>
        <p:spPr>
          <a:xfrm>
            <a:off x="2057400" y="5943600"/>
            <a:ext cx="5715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 Curve – Innovation Adoption . . .</a:t>
            </a:r>
            <a:endParaRPr b="0" lang="en-US" sz="3200" spc="-1" strike="noStrike">
              <a:solidFill>
                <a:srgbClr val="c1eeff"/>
              </a:solidFill>
              <a:latin typeface="Consolas"/>
            </a:endParaRPr>
          </a:p>
        </p:txBody>
      </p:sp>
      <p:sp>
        <p:nvSpPr>
          <p:cNvPr id="40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512640"/>
            <a:ext cx="8077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pic>
        <p:nvPicPr>
          <p:cNvPr id="410" name="Content Placeholder 5" descr=""/>
          <p:cNvPicPr/>
          <p:nvPr/>
        </p:nvPicPr>
        <p:blipFill>
          <a:blip r:embed="rId1"/>
          <a:stretch/>
        </p:blipFill>
        <p:spPr>
          <a:xfrm>
            <a:off x="990720" y="121932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S-Curve of Digital Storytelling . . .</a:t>
            </a:r>
            <a:endParaRPr b="0" lang="en-US" sz="3200" spc="-1" strike="noStrike">
              <a:solidFill>
                <a:srgbClr val="c1eeff"/>
              </a:solidFill>
              <a:latin typeface="Consolas"/>
            </a:endParaRPr>
          </a:p>
        </p:txBody>
      </p:sp>
      <p:sp>
        <p:nvSpPr>
          <p:cNvPr id="41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graph presents the dates of adoption by various organizations over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data reveals the adoption of Digital Storytelling does not fit the norm but does slowly increase over tim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me organizations adopt this innovations at the same ti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ate of Adoption </a:t>
            </a: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usion of Digital Storytelling at different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tes in the k-12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16"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17" name="Picture 4" descr="C:\Program Files\Microsoft Office\MEDIA\CAGCAT10\j0297707.wmf"/>
          <p:cNvPicPr/>
          <p:nvPr/>
        </p:nvPicPr>
        <p:blipFill>
          <a:blip r:embed="rId3"/>
          <a:stretch/>
        </p:blipFill>
        <p:spPr>
          <a:xfrm>
            <a:off x="1371600" y="3352680"/>
            <a:ext cx="1479600" cy="18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1: Need . . .</a:t>
            </a:r>
            <a:endParaRPr b="0" lang="en-US" sz="4000" spc="-1" strike="noStrike">
              <a:solidFill>
                <a:srgbClr val="c1eeff"/>
              </a:solidFill>
              <a:latin typeface="Consolas"/>
            </a:endParaRPr>
          </a:p>
        </p:txBody>
      </p:sp>
      <p:pic>
        <p:nvPicPr>
          <p:cNvPr id="371" name="Picture 2" descr="C:\Program Files\Microsoft Office\MEDIA\CAGCAT10\j0299125.wmf"/>
          <p:cNvPicPr/>
          <p:nvPr/>
        </p:nvPicPr>
        <p:blipFill>
          <a:blip r:embed="rId1"/>
          <a:stretch/>
        </p:blipFill>
        <p:spPr>
          <a:xfrm>
            <a:off x="3962520" y="4800600"/>
            <a:ext cx="1100160" cy="1805040"/>
          </a:xfrm>
          <a:prstGeom prst="rect">
            <a:avLst/>
          </a:prstGeom>
          <a:ln w="0">
            <a:noFill/>
          </a:ln>
        </p:spPr>
      </p:pic>
      <p:sp>
        <p:nvSpPr>
          <p:cNvPr id="372" name="TextBox 4"/>
          <p:cNvSpPr/>
          <p:nvPr/>
        </p:nvSpPr>
        <p:spPr>
          <a:xfrm>
            <a:off x="990720" y="13716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 or need existed that gave rise to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Digital Storytelling’ is an emerging term, one that arises from a grassroots movement that uses new digital tools to help ordinary people tell their own ‘true stories’ in a compelling and emotional engaging form” (Wikipedia, 2009, ¶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novators . . .</a:t>
            </a:r>
            <a:endParaRPr b="0" lang="en-US" sz="4000" spc="-1" strike="noStrike">
              <a:solidFill>
                <a:srgbClr val="c1eeff"/>
              </a:solidFill>
              <a:latin typeface="Consolas"/>
            </a:endParaRPr>
          </a:p>
        </p:txBody>
      </p:sp>
      <p:sp>
        <p:nvSpPr>
          <p:cNvPr id="419" name=""/>
          <p:cNvSpPr txBox="1"/>
          <p:nvPr/>
        </p:nvSpPr>
        <p:spPr>
          <a:xfrm>
            <a:off x="914400" y="1295280"/>
            <a:ext cx="7772400" cy="4572000"/>
          </a:xfrm>
          <a:prstGeom prst="rect">
            <a:avLst/>
          </a:prstGeom>
          <a:noFill/>
          <a:ln w="0">
            <a:noFill/>
          </a:ln>
        </p:spPr>
        <p:txBody>
          <a:bodyPr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ana Atchley and Joe Lamber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each digital storytelling workshops for filmmakers</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nd  the </a:t>
            </a:r>
            <a:r>
              <a:rPr b="0" lang="es-ES" sz="3000" spc="-1" strike="noStrike">
                <a:solidFill>
                  <a:srgbClr val="ffffff"/>
                </a:solidFill>
                <a:latin typeface="Corbel"/>
              </a:rPr>
              <a:t>San Francisco Digital Media Center (SFDMC)</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ins  organizations on digital storytelling facilitation</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laborated internationally</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DS, 2009) </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Adopters . . .</a:t>
            </a:r>
            <a:endParaRPr b="0" lang="en-US" sz="4000" spc="-1" strike="noStrike">
              <a:solidFill>
                <a:srgbClr val="c1eeff"/>
              </a:solidFill>
              <a:latin typeface="Consolas"/>
            </a:endParaRPr>
          </a:p>
        </p:txBody>
      </p:sp>
      <p:sp>
        <p:nvSpPr>
          <p:cNvPr id="421" name=""/>
          <p:cNvSpPr txBox="1"/>
          <p:nvPr/>
        </p:nvSpPr>
        <p:spPr>
          <a:xfrm>
            <a:off x="914400" y="1219320"/>
            <a:ext cx="7772400" cy="54864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ter for Digital Storytelling (CDS) lead the way for digital storytelling ado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t>
            </a:r>
            <a:r>
              <a:rPr b="0" lang="en-US" sz="2000" spc="-1" strike="noStrike">
                <a:solidFill>
                  <a:srgbClr val="ffffff"/>
                </a:solidFill>
                <a:latin typeface="Corbe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3" name=""/>
          <p:cNvSpPr txBox="1"/>
          <p:nvPr/>
        </p:nvSpPr>
        <p:spPr>
          <a:xfrm>
            <a:off x="914400" y="13716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unity colleges in San Francisco begin digital storytelling program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pple Computer and Adobe Systems develop digital storytelling curricul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tune 50 leaders  like Hewlett Packard, Ford, and Proctor and Gamble (U.S.) and Tryg Baltica (Copenhagen) attend digital storytelling workshop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DS, 200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ly Majority . . .</a:t>
            </a:r>
            <a:endParaRPr b="0" lang="en-US" sz="4000" spc="-1" strike="noStrike">
              <a:solidFill>
                <a:srgbClr val="c1eeff"/>
              </a:solidFill>
              <a:latin typeface="Consolas"/>
            </a:endParaRPr>
          </a:p>
        </p:txBody>
      </p:sp>
      <p:sp>
        <p:nvSpPr>
          <p:cNvPr id="425" name=""/>
          <p:cNvSpPr txBox="1"/>
          <p:nvPr/>
        </p:nvSpPr>
        <p:spPr>
          <a:xfrm>
            <a:off x="990720" y="1142640"/>
            <a:ext cx="7772400" cy="5715000"/>
          </a:xfrm>
          <a:prstGeom prst="rect">
            <a:avLst/>
          </a:prstGeom>
          <a:noFill/>
          <a:ln w="0">
            <a:noFill/>
          </a:ln>
        </p:spPr>
        <p:txBody>
          <a:bodyPr anchor="t">
            <a:normAutofit/>
          </a:bodyPr>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ggards . . .</a:t>
            </a:r>
            <a:endParaRPr b="0" lang="en-US" sz="4000" spc="-1" strike="noStrike">
              <a:solidFill>
                <a:srgbClr val="c1eeff"/>
              </a:solidFill>
              <a:latin typeface="Consolas"/>
            </a:endParaRPr>
          </a:p>
        </p:txBody>
      </p:sp>
      <p:sp>
        <p:nvSpPr>
          <p:cNvPr id="427" name=""/>
          <p:cNvSpPr txBox="1"/>
          <p:nvPr/>
        </p:nvSpPr>
        <p:spPr>
          <a:xfrm>
            <a:off x="914400" y="13716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ceived Attributes . . .</a:t>
            </a:r>
            <a:endParaRPr b="0" lang="en-US" sz="4000" spc="-1" strike="noStrike">
              <a:solidFill>
                <a:srgbClr val="c1eeff"/>
              </a:solidFill>
              <a:latin typeface="Consolas"/>
            </a:endParaRPr>
          </a:p>
        </p:txBody>
      </p:sp>
      <p:sp>
        <p:nvSpPr>
          <p:cNvPr id="429" name=""/>
          <p:cNvSpPr txBox="1"/>
          <p:nvPr/>
        </p:nvSpPr>
        <p:spPr>
          <a:xfrm>
            <a:off x="914400" y="1294920"/>
            <a:ext cx="7772400" cy="533412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exity, “the degree to which an innovation is perceived as difficult to understand or use” (Rogers, 2003, p. 16),  plays an important role in digital storytelling adoption.</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ducators do not need complex tools or concepts when teaching students. This may account for the delay in adoption. Over the years, tools have been invented to created digital stories that are easier to use. </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xamples: Microsoft Photo Story, Apple iMovie, and Windows Moviemaker</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bservability, “the degree to which the results of an innovation are visible to others” (Rogers, 2003, p. 16), describes how digital storytelling should be analyz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skeptics see digital storytelling being utilized, they are more accepting and willing to try it for themselves.</a:t>
            </a:r>
            <a:endParaRPr b="0" lang="en-US" sz="3000" spc="-1" strike="noStrike">
              <a:solidFill>
                <a:srgbClr val="ffffff"/>
              </a:solidFill>
              <a:latin typeface="Corbel"/>
            </a:endParaRPr>
          </a:p>
        </p:txBody>
      </p:sp>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ceived Attribute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ritical Mass . . .</a:t>
            </a:r>
            <a:endParaRPr b="0" lang="en-US" sz="4000" spc="-1" strike="noStrike">
              <a:solidFill>
                <a:srgbClr val="c1eeff"/>
              </a:solidFill>
              <a:latin typeface="Consolas"/>
            </a:endParaRPr>
          </a:p>
        </p:txBody>
      </p:sp>
      <p:sp>
        <p:nvSpPr>
          <p:cNvPr id="433" name="Vertical Scroll 3"/>
          <p:cNvSpPr/>
          <p:nvPr/>
        </p:nvSpPr>
        <p:spPr>
          <a:xfrm>
            <a:off x="2133720" y="1523880"/>
            <a:ext cx="4495680" cy="4496040"/>
          </a:xfrm>
          <a:prstGeom prst="verticalScroll">
            <a:avLst>
              <a:gd name="adj" fmla="val 12500"/>
            </a:avLst>
          </a:prstGeom>
          <a:solidFill>
            <a:srgbClr val="ccedb1"/>
          </a:solidFill>
          <a:ln w="19080">
            <a:solidFill>
              <a:srgbClr val="3f6d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6d19"/>
                </a:solidFill>
                <a:latin typeface="Corbel"/>
              </a:rPr>
              <a:t>Annual festival and work shop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orbel"/>
                <a:hlinkClick r:id="rId1"/>
              </a:rPr>
              <a:t>http://www.aberth.com/blog/ds4-festival-of-digital-storytelling-2009-cribsheet.htm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UTurnArrow"/>
          <p:cNvSpPr/>
          <p:nvPr/>
        </p:nvSpPr>
        <p:spPr>
          <a:xfrm>
            <a:off x="4114800" y="3200400"/>
            <a:ext cx="504720" cy="60948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45720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entralized diffusion . . .</a:t>
            </a:r>
            <a:endParaRPr b="0" lang="en-US" sz="4000" spc="-1" strike="noStrike">
              <a:solidFill>
                <a:srgbClr val="c1eeff"/>
              </a:solidFill>
              <a:latin typeface="Consolas"/>
            </a:endParaRPr>
          </a:p>
        </p:txBody>
      </p:sp>
      <p:sp>
        <p:nvSpPr>
          <p:cNvPr id="436" name=""/>
          <p:cNvSpPr txBox="1"/>
          <p:nvPr/>
        </p:nvSpPr>
        <p:spPr>
          <a:xfrm>
            <a:off x="838080" y="1295280"/>
            <a:ext cx="7772400" cy="51055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 the K-12 educational organization, digital storytelling would best be diffused through a decentralized diffusion system.</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centralized diffusion occurs when “innovations originate from numerous local sources and then evolve as they diffuse via horizontal networks” (Rogers, 2003, p. 395).</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ith the k-12 system being divided into different areas (elementary, middle, and high), each may diffuse differently based on usage, adaptation and nee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ey Change Agents . . .</a:t>
            </a:r>
            <a:endParaRPr b="0" lang="en-US" sz="4000" spc="-1" strike="noStrike">
              <a:solidFill>
                <a:srgbClr val="c1eeff"/>
              </a:solidFill>
              <a:latin typeface="Consolas"/>
            </a:endParaRPr>
          </a:p>
        </p:txBody>
      </p:sp>
      <p:sp>
        <p:nvSpPr>
          <p:cNvPr id="438" name=""/>
          <p:cNvSpPr txBox="1"/>
          <p:nvPr/>
        </p:nvSpPr>
        <p:spPr>
          <a:xfrm>
            <a:off x="914400" y="1371240"/>
            <a:ext cx="7772400" cy="498492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A change agent is an individual who influenced clients’ innovation-decisions in a direction deemed desirable” (Rogers, 2003, p. 366).</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Key change agents may be classroom teachers, instructional leaders, administrators or school policy personnel who have adopted digital storytelling into the curriculum.</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se are adopters would have great influence on others, in this system, to adopt digital storytelling.</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ogers (2003) noted, “In many cases, adopters serve as their own change agents in diffusing their innovation to others” (p. 395)</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2: Research . . .</a:t>
            </a:r>
            <a:endParaRPr b="0" lang="en-US" sz="4000" spc="-1" strike="noStrike">
              <a:solidFill>
                <a:srgbClr val="c1eeff"/>
              </a:solidFill>
              <a:latin typeface="Consolas"/>
            </a:endParaRPr>
          </a:p>
        </p:txBody>
      </p:sp>
      <p:pic>
        <p:nvPicPr>
          <p:cNvPr id="374" name="Picture 2" descr="C:\Program Files\Microsoft Office\MEDIA\CAGCAT10\j0195384.wmf"/>
          <p:cNvPicPr/>
          <p:nvPr/>
        </p:nvPicPr>
        <p:blipFill>
          <a:blip r:embed="rId1"/>
          <a:stretch/>
        </p:blipFill>
        <p:spPr>
          <a:xfrm>
            <a:off x="3657600" y="4800600"/>
            <a:ext cx="1795320" cy="1833480"/>
          </a:xfrm>
          <a:prstGeom prst="rect">
            <a:avLst/>
          </a:prstGeom>
          <a:ln w="0">
            <a:noFill/>
          </a:ln>
        </p:spPr>
      </p:pic>
      <p:sp>
        <p:nvSpPr>
          <p:cNvPr id="375" name="TextBox 5"/>
          <p:cNvSpPr/>
          <p:nvPr/>
        </p:nvSpPr>
        <p:spPr>
          <a:xfrm>
            <a:off x="914400" y="1295280"/>
            <a:ext cx="7924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research organization or people developed a solution to this problem or need? What were their findings? Who were the ‘lead thinkers’ for this innovation, and how did they convince a manufacturer to produce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Some of the artists that have self-described as digital storytellers included Joe Lambert, Massimo Don, Massimo Laurel, Dana Atchley and Massimo Meyer” (Wikipedia, 2009, ¶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r>
              <a:rPr b="0" lang="en-US" sz="1800" spc="-1" strike="noStrike">
                <a:solidFill>
                  <a:srgbClr val="ffffff"/>
                </a:solidFill>
                <a:latin typeface="Corbel"/>
              </a:rPr>
              <a:t>Digital storytelling  has its roots in the American community theatre movement, emerging in California in the late eighties through the collaboration of performing artist Dana Atchley and actor Joe Lambert” (Tucker, 2006, p. 5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914400" y="1371240"/>
            <a:ext cx="7772400" cy="518148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occurs at the point at which enough individuals in a system have adopted an innovation so that the innovation’s further rate of adoption becomes self-sustaining” (Rogers, 2003, p. 344)</a:t>
            </a:r>
            <a:endParaRPr b="0" lang="en-US" sz="30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ical mass was reached for digital storytelling in 1999 when the demand for CDS annual workshops and training was requested nationally and internationally. (CDS, 2009)</a:t>
            </a:r>
            <a:endParaRPr b="0" lang="en-US" sz="3000" spc="-1" strike="noStrike">
              <a:solidFill>
                <a:srgbClr val="ffffff"/>
              </a:solidFill>
              <a:latin typeface="Corbel"/>
            </a:endParaRPr>
          </a:p>
        </p:txBody>
      </p:sp>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ritical Mass . . .</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ferences</a:t>
            </a:r>
            <a:endParaRPr b="0" lang="en-US" sz="4000" spc="-1" strike="noStrike">
              <a:solidFill>
                <a:srgbClr val="c1eeff"/>
              </a:solidFill>
              <a:latin typeface="Consolas"/>
            </a:endParaRPr>
          </a:p>
        </p:txBody>
      </p:sp>
      <p:sp>
        <p:nvSpPr>
          <p:cNvPr id="442" name=""/>
          <p:cNvSpPr txBox="1"/>
          <p:nvPr/>
        </p:nvSpPr>
        <p:spPr>
          <a:xfrm>
            <a:off x="914400" y="1142640"/>
            <a:ext cx="7772400" cy="5715000"/>
          </a:xfrm>
          <a:prstGeom prst="rect">
            <a:avLst/>
          </a:prstGeom>
          <a:noFill/>
          <a:ln w="0">
            <a:noFill/>
          </a:ln>
        </p:spPr>
        <p:txBody>
          <a:bodyPr anchor="t">
            <a:normAutofit fontScale="96000"/>
          </a:bodyPr>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naszwenski, T. (2002). Digital storytelling finds its place in the classroom. </a:t>
            </a:r>
            <a:r>
              <a:rPr b="0" i="1" lang="en-US" sz="1400" spc="-1" strike="noStrike">
                <a:solidFill>
                  <a:srgbClr val="ffffff"/>
                </a:solidFill>
                <a:latin typeface="Corbel"/>
              </a:rPr>
              <a:t>Multiple Schools, 9</a:t>
            </a:r>
            <a:r>
              <a:rPr b="0" lang="en-US" sz="1400" spc="-1" strike="noStrike">
                <a:solidFill>
                  <a:srgbClr val="ffffff"/>
                </a:solidFill>
                <a:latin typeface="Corbel"/>
              </a:rPr>
              <a:t>(1), 32-35.</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enter for Digital Storytelling. (2009). The evolution of digital storytelling:</a:t>
            </a:r>
            <a:br>
              <a:rPr sz="1400"/>
            </a:br>
            <a:r>
              <a:rPr b="0" lang="en-US" sz="1400" spc="-1" strike="noStrike">
                <a:solidFill>
                  <a:srgbClr val="ffffff"/>
                </a:solidFill>
                <a:latin typeface="Corbel"/>
              </a:rPr>
              <a:t>An abbreviated history of key moments during the first sixteen years (1993-2006). Retrieved July 2, 2009, from </a:t>
            </a:r>
            <a:r>
              <a:rPr b="0" lang="en-US" sz="1400" spc="-1" strike="noStrike" u="sng">
                <a:solidFill>
                  <a:srgbClr val="eb8803"/>
                </a:solidFill>
                <a:uFillTx/>
                <a:latin typeface="Corbel"/>
                <a:hlinkClick r:id="rId1"/>
              </a:rPr>
              <a:t>http://www.storycenter.org/timeline.html</a:t>
            </a:r>
            <a:r>
              <a:rPr b="0" lang="en-US" sz="1400" spc="-1" strike="noStrike">
                <a:solidFill>
                  <a:srgbClr val="ffffff"/>
                </a:solidFill>
                <a:latin typeface="Corbel"/>
              </a:rPr>
              <a:t> </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nnovative Teaching Concepts. (2009). Digital storytelling: The very last of the great whangdoodles [video recording]. Retrieved July 3, 2009, from </a:t>
            </a:r>
            <a:r>
              <a:rPr b="0" lang="en-US" sz="1400" spc="-1" strike="noStrike" u="sng">
                <a:solidFill>
                  <a:srgbClr val="eb8803"/>
                </a:solidFill>
                <a:uFillTx/>
                <a:latin typeface="Corbel"/>
                <a:hlinkClick r:id="rId2"/>
              </a:rPr>
              <a:t>http://www.todaysteacher.com/Digital_Storytelling/wangdoodle.wmv</a:t>
            </a:r>
            <a:r>
              <a:rPr b="0" lang="en-US" sz="1400" spc="-1" strike="noStrike">
                <a:solidFill>
                  <a:srgbClr val="ffffff"/>
                </a:solidFill>
                <a:latin typeface="Corbel"/>
              </a:rPr>
              <a:t> </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ogers, E. (2003). Diffusion of innovations (5th ed.). New York: Free Press.</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ucker, G. (2006). First person singular: The power of digital storytelling. </a:t>
            </a:r>
            <a:r>
              <a:rPr b="0" i="1" lang="en-US" sz="1400" spc="-1" strike="noStrike">
                <a:solidFill>
                  <a:srgbClr val="ffffff"/>
                </a:solidFill>
                <a:latin typeface="Corbel"/>
              </a:rPr>
              <a:t>Screen Education, 42</a:t>
            </a:r>
            <a:r>
              <a:rPr b="0" lang="en-US" sz="1400" spc="-1" strike="noStrike">
                <a:solidFill>
                  <a:srgbClr val="ffffff"/>
                </a:solidFill>
                <a:latin typeface="Corbel"/>
              </a:rPr>
              <a:t>, 54-58.</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University of Houston. (2008). The educational uses of digital storytelling: An introduction to digital storytelling [video recording]. Retrieved June 25, 2009, from http://digitalstorytelling.coe.uh.edu/index.html </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alkanova, Y., &amp; Watts, M. (2007). Digital story telling in a science classroom: reflective self-learning</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RSL) in action. </a:t>
            </a:r>
            <a:r>
              <a:rPr b="0" i="1" lang="en-US" sz="1400" spc="-1" strike="noStrike">
                <a:solidFill>
                  <a:srgbClr val="ffffff"/>
                </a:solidFill>
                <a:latin typeface="Corbel"/>
              </a:rPr>
              <a:t>Early Child Development and Care, 177</a:t>
            </a:r>
            <a:r>
              <a:rPr b="0" lang="en-US" sz="1400" spc="-1" strike="noStrike">
                <a:solidFill>
                  <a:srgbClr val="ffffff"/>
                </a:solidFill>
                <a:latin typeface="Corbel"/>
              </a:rPr>
              <a:t>(6-7), 793-807.</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ikipedia. (2009). </a:t>
            </a:r>
            <a:r>
              <a:rPr b="0" i="1" lang="en-US" sz="1400" spc="-1" strike="noStrike">
                <a:solidFill>
                  <a:srgbClr val="ffffff"/>
                </a:solidFill>
                <a:latin typeface="Corbel"/>
              </a:rPr>
              <a:t>Digital storytelling. </a:t>
            </a:r>
            <a:r>
              <a:rPr b="0" lang="en-US" sz="1400" spc="-1" strike="noStrike">
                <a:solidFill>
                  <a:srgbClr val="ffffff"/>
                </a:solidFill>
                <a:latin typeface="Corbel"/>
              </a:rPr>
              <a:t>Retrieved June 25, 2009, from http://en.wikipedia.org/wiki/Digital_storytelling</a:t>
            </a: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source</a:t>
            </a:r>
            <a:endParaRPr b="0" lang="en-US" sz="4000" spc="-1" strike="noStrike">
              <a:solidFill>
                <a:srgbClr val="c1eeff"/>
              </a:solidFill>
              <a:latin typeface="Consolas"/>
            </a:endParaRPr>
          </a:p>
        </p:txBody>
      </p:sp>
      <p:sp>
        <p:nvSpPr>
          <p:cNvPr id="444" name=""/>
          <p:cNvSpPr txBox="1"/>
          <p:nvPr/>
        </p:nvSpPr>
        <p:spPr>
          <a:xfrm>
            <a:off x="914400" y="1218960"/>
            <a:ext cx="7772400" cy="56386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enter for Digital Story Telling</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nextexit.com/nextexit/nextframeset.html</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storycenter.org/cookbook.html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electronicportfolios.org/digistory/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apple.com/ilife/imovi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microsoft.com/windowsxp/using/digitalphotography/photostory/default.mspx</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aberth.com/blog/ds4-festival-of-digital-storytelling-2009-cribsheet.html</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ttp://www.digitales.us/index.php</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age 3: Development . . .</a:t>
            </a:r>
            <a:endParaRPr b="0" lang="en-US" sz="4000" spc="-1" strike="noStrike">
              <a:solidFill>
                <a:srgbClr val="c1eeff"/>
              </a:solidFill>
              <a:latin typeface="Consolas"/>
            </a:endParaRPr>
          </a:p>
        </p:txBody>
      </p:sp>
      <p:pic>
        <p:nvPicPr>
          <p:cNvPr id="377" name="Picture 4" descr="C:\Program Files\Microsoft Office\MEDIA\CAGCAT10\j0285410.wmf"/>
          <p:cNvPicPr/>
          <p:nvPr/>
        </p:nvPicPr>
        <p:blipFill>
          <a:blip r:embed="rId1"/>
          <a:stretch/>
        </p:blipFill>
        <p:spPr>
          <a:xfrm>
            <a:off x="3809880" y="4800600"/>
            <a:ext cx="1866960" cy="1776240"/>
          </a:xfrm>
          <a:prstGeom prst="rect">
            <a:avLst/>
          </a:prstGeom>
          <a:ln w="0">
            <a:noFill/>
          </a:ln>
        </p:spPr>
      </p:pic>
      <p:sp>
        <p:nvSpPr>
          <p:cNvPr id="378" name="TextBox 7"/>
          <p:cNvSpPr/>
          <p:nvPr/>
        </p:nvSpPr>
        <p:spPr>
          <a:xfrm>
            <a:off x="1066680" y="1600200"/>
            <a:ext cx="7315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hat problems did Digital storytelling encounter in the development process? Who was the intended audience for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biggest problem found i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original intended audience was the people or socie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Consolas"/>
              </a:rPr>
              <a:t>Stage 4: Commercialization . . .</a:t>
            </a:r>
            <a:endParaRPr b="0" lang="en-US" sz="3400" spc="-1" strike="noStrike">
              <a:solidFill>
                <a:srgbClr val="c1eeff"/>
              </a:solidFill>
              <a:latin typeface="Consolas"/>
            </a:endParaRPr>
          </a:p>
        </p:txBody>
      </p:sp>
      <p:pic>
        <p:nvPicPr>
          <p:cNvPr id="380" name="Picture 4" descr="C:\Program Files\Microsoft Office\MEDIA\CAGCAT10\j0287005.wmf"/>
          <p:cNvPicPr/>
          <p:nvPr/>
        </p:nvPicPr>
        <p:blipFill>
          <a:blip r:embed="rId1"/>
          <a:stretch/>
        </p:blipFill>
        <p:spPr>
          <a:xfrm>
            <a:off x="4038480" y="4419720"/>
            <a:ext cx="1357560" cy="2332080"/>
          </a:xfrm>
          <a:prstGeom prst="rect">
            <a:avLst/>
          </a:prstGeom>
          <a:ln w="0">
            <a:noFill/>
          </a:ln>
        </p:spPr>
      </p:pic>
      <p:sp>
        <p:nvSpPr>
          <p:cNvPr id="381" name="TextBox 6"/>
          <p:cNvSpPr/>
          <p:nvPr/>
        </p:nvSpPr>
        <p:spPr>
          <a:xfrm>
            <a:off x="1066680" y="1600200"/>
            <a:ext cx="7162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escribe the production, manufacturing, packaging, marketing, and distribution of Digital Storytell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Digital Storytelling is produced through workshops, in-class training,  websites and the Center for Digital Storytell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The Innovation-Decision Process</a:t>
            </a:r>
            <a:endParaRPr b="0" lang="en-US" sz="3600" spc="-1" strike="noStrike">
              <a:solidFill>
                <a:srgbClr val="c1eeff"/>
              </a:solidFill>
              <a:latin typeface="Consolas"/>
            </a:endParaRPr>
          </a:p>
        </p:txBody>
      </p:sp>
      <p:pic>
        <p:nvPicPr>
          <p:cNvPr id="383" name="Picture 4" descr="">
            <a:hlinkClick r:id="rId1"/>
          </p:cNvPr>
          <p:cNvPicPr/>
          <p:nvPr/>
        </p:nvPicPr>
        <p:blipFill>
          <a:blip r:embed="rId2"/>
          <a:stretch/>
        </p:blipFill>
        <p:spPr>
          <a:xfrm>
            <a:off x="1600200" y="2514600"/>
            <a:ext cx="6400800" cy="3657600"/>
          </a:xfrm>
          <a:prstGeom prst="rect">
            <a:avLst/>
          </a:prstGeom>
          <a:ln w="0">
            <a:noFill/>
          </a:ln>
        </p:spPr>
      </p:pic>
      <p:pic>
        <p:nvPicPr>
          <p:cNvPr id="384" name="Rectangle 4" descr=""/>
          <p:cNvPicPr/>
          <p:nvPr/>
        </p:nvPicPr>
        <p:blipFill>
          <a:blip r:embed="rId3"/>
          <a:stretch/>
        </p:blipFill>
        <p:spPr>
          <a:xfrm>
            <a:off x="3041640" y="1889280"/>
            <a:ext cx="3749760" cy="274320"/>
          </a:xfrm>
          <a:prstGeom prst="rect">
            <a:avLst/>
          </a:prstGeom>
          <a:ln w="0">
            <a:noFill/>
          </a:ln>
        </p:spPr>
      </p:pic>
      <p:sp>
        <p:nvSpPr>
          <p:cNvPr id="385" name="TextBox 6"/>
          <p:cNvSpPr/>
          <p:nvPr/>
        </p:nvSpPr>
        <p:spPr>
          <a:xfrm>
            <a:off x="1600200" y="64008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iversity of Houston,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Knowledge . . .</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a:bodyPr>
          <a:p>
            <a:pPr marL="582480" indent="-514080">
              <a:lnSpc>
                <a:spcPct val="90000"/>
              </a:lnSpc>
              <a:spcBef>
                <a:spcPts val="700"/>
              </a:spcBef>
              <a:buClr>
                <a:srgbClr val="d6ecff"/>
              </a:buClr>
              <a:buSzPct val="95000"/>
              <a:buFont typeface="Corbel"/>
              <a:buAutoNum type="arabicPlain" startAt="198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fter viewing a production, Dana Atchley, local video producer, meets Joe Lambert, co-founder and executive director of the new Life On The Water Theater Company in San Francisco, California (Center for Digital Storytelling).</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988-90 – Atchley and Lambert collaborate to develop a Atchley’s</a:t>
            </a:r>
            <a:r>
              <a:rPr b="0" i="1" lang="en-US" sz="2800" spc="-1" strike="noStrike">
                <a:solidFill>
                  <a:srgbClr val="ffffff"/>
                </a:solidFill>
                <a:latin typeface="Corbel"/>
              </a:rPr>
              <a:t> Next Exit, an interactive theoretical performance.</a:t>
            </a:r>
            <a:endParaRPr b="0" lang="en-US" sz="2800" spc="-1" strike="noStrike">
              <a:solidFill>
                <a:srgbClr val="ffffff"/>
              </a:solidFill>
              <a:latin typeface="Corbel"/>
            </a:endParaRPr>
          </a:p>
          <a:p>
            <a:pPr marL="582480" indent="-514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8803"/>
                </a:solidFill>
                <a:uFillTx/>
                <a:latin typeface="Corbel"/>
                <a:hlinkClick r:id="rId1"/>
              </a:rPr>
              <a:t>http://www.nextexit.com/nextexit/nextframeset.html</a:t>
            </a:r>
            <a:r>
              <a:rPr b="0" lang="en-US"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ersuasion . . .</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cision . . .</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7-27T03:27:26Z</dcterms:modified>
  <cp:revision>81</cp:revision>
  <dc:subject/>
  <dc:title>Digital Storytelling</dc:title>
</cp:coreProperties>
</file>